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1391-8B3E-4CE5-956B-4637B2EB3A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глазами географ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C26B-1AC4-4717-97C5-BB23BBA5FF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ус не всегда был таким, как сейча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телем первого глобуса был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мецкий географ Мартин  Бехай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было в 1492 году. Свою модель он назвал «земное яблок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глобус Бехай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личается от современного глобуса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нём не было Северной и Южной Америк, они не были откры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т, глобусом в путешествии пользоваться неудоб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70F5-0DB8-49A2-86CE-A67BD9D3C9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ути нужен другой помощник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оторыми видами географических карт мы уже пользовались: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изическая карта России, Политическая карта мира, Эколог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изображение Земли на бума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ческая карта - это условное изображение поверхности Земли на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FB4B-490C-4404-B57E-98F75E8083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м глобус и карту полушарий. Что между ними общего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- это целый шар, а на карте две полов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падное полушарие и Восточное полуша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2FBD-2A3B-4654-B729-E33C2DD084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геогра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учает территориальную организацию человече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ADC5-A5C7-4280-A6BC-503AC737ED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кономически развиты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вивающие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296D-935C-45DA-9BA4-8C745B300D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72D7-5211-443F-877B-10011E5AB9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 текст учебника стр.22-2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ить на вопросы стр.2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ться к тес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52F0-47F4-46C0-A729-AA61828810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BA32-65E3-4FAF-A874-93E7F69F05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8B30-C217-47F4-A8E5-904BC7B1CC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же такое география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ш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как толкует слово «география» С.И. Ожег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5173-F278-4F33-ADEA-47D922E407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географы?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 - специалист по ге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учает география? Что же нам может объяснить  современная   география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других — жаркое лето, почему в одних странах ловят рыбу, а в других добывают неф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изобретения человека помогают нам путешествовать по планете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глобус и географическая к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6534-E471-46FA-81E3-A808E43167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форму имеет глобус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лобус имеет форму шара, немного приплюснут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ую он имеет окраску?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глобусе есть синий, желтый, коричневый, зеленый, белый цвета. Си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да, желтый, коричневый, зеленый — суша, белый - л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глобус называют «мяч в сетке»?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Глобус покрыт линиями, будто сет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64D5-DD2F-41D8-8D9A-4658B98658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две точки глобуса остаются на месте при его враще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 вращении на месте остаются полюса: северный и юж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линиях, расположенных горизонталь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изонтальные линии разные по длине, у полюсов это маленькие коле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зывают «главный пояс Земли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Главный пояс земли» - эквато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скажете о вертикальных ли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ртикальные линии соединяются в одну точку на полю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5C10-7A46-4C00-9473-FB8A188681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5381-617B-4CFF-B92C-27E0A99CD7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ии расположены паралл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их можно назвать?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аралл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: Тихий, Атлантический ,Индийский и Северный Ледовит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вы можете сказать о матери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3AB1-8048-41B6-8C92-65793F68B1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AE0-EE3F-4D4C-96D5-85EBE229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6E7-7DD5-4C85-B9B7-FC4F261E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B8F-7694-4ECA-82A0-9CA7FA28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F9B5-DC4C-44DD-95F3-2B81FE02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7769-7605-4BE0-9140-D7F3C803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C23EA-8F39-462F-9CE8-B0940940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BA0C6-FE46-468B-A55D-14387475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25EC6-107E-4E31-B3BB-49578B3D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8015E-6C48-4D3E-8CFB-CC99815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71BB8-BD5B-4A73-878A-CDF39E6D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1BB28-7FFF-4DBC-B3DD-2DD81EB2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B5C-AEFB-4780-B1F3-A4BAD780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3512E-F5ED-4AD6-9275-E452D9E0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6C6B5-BAD9-46A4-91E3-EF706E2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F48D4-5BE4-4EF3-B6CF-B6E9DFD5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C54F2-4C7F-468B-8FBB-05B63C8C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9B24D-A8E4-43A7-ACDB-DB63E373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EB2-BB60-4E32-A67C-DC2EDB95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7D0-5FFA-42BD-848B-953E463C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D05-E53C-4466-829E-28444DB2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01C-8584-4438-8233-59E7898A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DD0-E758-4991-B014-88B69BBC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EE8-4A9A-4040-ADB6-14B39266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170-5490-4B4C-91AD-0A5BA36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C447-3E2E-4617-B4F1-A4BE33760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79E-0AC5-4E76-A44C-2F3BDB0FCB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ир глазами географа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301252"/>
          <p:cNvPicPr/>
          <p:nvPr/>
        </p:nvPicPr>
        <p:blipFill>
          <a:blip r:embed="rId1"/>
          <a:stretch/>
        </p:blipFill>
        <p:spPr>
          <a:xfrm>
            <a:off x="4500720" y="1843200"/>
            <a:ext cx="4032000" cy="41497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4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лобус не всегда был таким, как сейчас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телем первого глобуса был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мецкий географ Мартин  Бехай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Это было в 1492 году. Свою модель он назвал «земное яблок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м глобус Бехай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ается от современного глобуса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нём не было Северной и Южной Америк, они не были откры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мере изучения Земли на глобусе появлялось все больше и больше географических объектов. Представьте себе, что вы отправляетесь в далекое путешествие по земному шару. Удобно ли вам будет в пути ориентироваться по глобусу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т, глобусом в путешествии пользоваться неудоб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5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ти нужен другой помощник.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Это географ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торыми видами географических карт мы уже пользовались: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изическая карта России, Политическая карта мира, Экологическая ка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изображение Земли на бумаг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еографическая карта - это условное изображение поверхности Земли на плоск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geo-small"/>
          <p:cNvPicPr/>
          <p:nvPr/>
        </p:nvPicPr>
        <p:blipFill>
          <a:blip r:embed="rId1"/>
          <a:stretch/>
        </p:blipFill>
        <p:spPr>
          <a:xfrm>
            <a:off x="4356000" y="1484280"/>
            <a:ext cx="4608720" cy="42498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5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вним глобус и карту полушарий. Что между ними общего?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а карте и на глобусе встречаются одни и те же цвета: синий, белый, коричневый, зеленый, желтый. На карте, и на глобусе указаны материки и океаны. На карте и на глобусе мы видим экватор, параллели и меридианы. Также  указаны Северный Полюс и Южный Полю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лобус - это целый шар, а на карте две полови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сем не случайно эту карту называют «Карта полушарий». «Половинки» - это полушария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падное полушарие и Восточное полушар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ите внимание на масштаб. Он нам показывает, сколько километров на местности соответствует одному сантиметру на карт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6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ческая географ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зучает территориальную организацию человеческого об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7" descr="j0251301"/>
          <p:cNvPicPr/>
          <p:nvPr/>
        </p:nvPicPr>
        <p:blipFill>
          <a:blip r:embed="rId1"/>
          <a:stretch/>
        </p:blipFill>
        <p:spPr>
          <a:xfrm>
            <a:off x="3924360" y="1843200"/>
            <a:ext cx="4535280" cy="4005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ходя из уровня социально-экономического развития, страны мира сегодня принято подразделять на два типа: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экономически развиты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 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звивающиес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лько география дает наиболее полные знания о природе, населении и хозяйстве того или иного региона нашей страны и мира в целом, она помогает прогнозировать и моделировать, те изменения природы, которые вызываются хозяйственной деятельностью людей. Без учета особенностей природы и населения нельзя определить политику развития региона. География обеспечивает контроль над состоянием природы, участвует в разработке системы мероприятий по борьбе с негативными последствиями воздействия человека на природу, дает прогнозы изменения и развития отдельных территор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8" descr="j0285360"/>
          <p:cNvPicPr/>
          <p:nvPr/>
        </p:nvPicPr>
        <p:blipFill>
          <a:blip r:embed="rId1"/>
          <a:stretch/>
        </p:blipFill>
        <p:spPr>
          <a:xfrm>
            <a:off x="4572000" y="1484280"/>
            <a:ext cx="4248000" cy="460872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читать  текст учебника стр.22-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ить на вопросы стр.2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ться к тест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ель работы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накомить с наукой, изучающей Землю, - географией; сформировать представление о глобусе и географической карте; закрепить умение работать с картой и глобусом; развивать умение наблюдать, сравнивать, анализировать, делать выво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егодня мы посмотрим на окружающий нас мир глазами географов, узнаем, что такое география и что она изучает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11" descr="polit-map-small"/>
          <p:cNvPicPr/>
          <p:nvPr/>
        </p:nvPicPr>
        <p:blipFill>
          <a:blip r:embed="rId1"/>
          <a:stretch/>
        </p:blipFill>
        <p:spPr>
          <a:xfrm>
            <a:off x="755640" y="3357720"/>
            <a:ext cx="7488360" cy="2447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то же такое география?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Это наука о Земле. В переводе с греческого «география» означает «землеописание». Это слово образовалось из двух слов: «гео» - Земля и «графо»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ш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телось бы добавить, что «гео» - это сокращение от «Гея» - так звали греческую богиню Зем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как толкует слово «география» С.И. Ожег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еография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лекс наук, изучающих поверхность Земли с ее природными условиями, распределение на ней населения, экономических ресур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.1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такие географы?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 - специалист по географ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изучает география? Что же нам может объяснить  современная   география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графия изучает природу земной поверхности, население и его хозяйственную деятельнос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еография объясняет,   почему Земля такая круглая, почему в одних районах лежит снег, а 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других — жаркое лето, почему в одних странах ловят рыбу, а в других добывают неф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акие изобретения человека помогают нам путешествовать по планете?  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Это глобус и географическая ка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21080" cy="44640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форму имеет глобус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лобус имеет форму шара, немного приплюснут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ую он имеет окраску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 глобусе есть синий, желтый, коричневый, зеленый, белый цвета. Синий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ода, желтый, коричневый, зеленый — суша, белый - ле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ему глобус называют «мяч в сетке»?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Глобус покрыт линиями, будто сет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е две точки глобуса остаются на месте при его вращени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вращении на месте остаются полюса: северный и южн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линиях, расположенных горизонтальн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оризонтальные линии разные по длине, у полюсов это маленькие коле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азывают «главный пояс Земли»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«Главный пояс земли» - эквато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скажете о вертикальных линия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ртикальные линии соединяются в одну точку на полю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MG-85-ATEv0"/>
          <p:cNvPicPr/>
          <p:nvPr/>
        </p:nvPicPr>
        <p:blipFill>
          <a:blip r:embed="rId1"/>
          <a:stretch/>
        </p:blipFill>
        <p:spPr>
          <a:xfrm>
            <a:off x="4932360" y="692280"/>
            <a:ext cx="3743280" cy="518472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лава 3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ждая линия на глобусе имеет, свое название. Вы уже сказали, что «главный пояс Земли» - это экватор, его еще называют «самая длинная параллел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же называют остальные горизонтальные линии? Как они расположены друг относительно  друг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инии расположены параллель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их можно назвать?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аралле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тикальные линии, соединяющие полюса, называются меридианами. На глобусе указаны материки и океаны. Четыре океана на земном шар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: Тихий, Атлантический ,Индийский и Северный Ледовит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вы можете сказать о материках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ков шесть: Евразия, Африка, Австралия, Антарктида, Северная Америка, Южная Амери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clip_image005"/>
          <p:cNvPicPr/>
          <p:nvPr/>
        </p:nvPicPr>
        <p:blipFill>
          <a:blip r:embed="rId1"/>
          <a:stretch/>
        </p:blipFill>
        <p:spPr>
          <a:xfrm>
            <a:off x="4500720" y="476280"/>
            <a:ext cx="4248000" cy="51847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24:07Z</dcterms:created>
  <dc:creator>оля</dc:creator>
  <dc:description/>
  <dc:language>en-US</dc:language>
  <cp:lastModifiedBy>LEGION</cp:lastModifiedBy>
  <dcterms:modified xsi:type="dcterms:W3CDTF">2014-12-29T09:26:03Z</dcterms:modified>
  <cp:revision>8</cp:revision>
  <dc:subject/>
  <dc:title>Мир глазами географа!</dc:title>
</cp:coreProperties>
</file>